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camera.wav" ContentType="audio/x-wav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C02B-A758-4095-B2A2-147962557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CAF0-2820-4837-889E-07A43978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1063-8A0D-4257-9E27-EBCD5EF77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F945-436D-45B2-B24A-5600806AF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E199-B904-4D82-8B57-DE1E5992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E7D8-6AE3-4B2F-B503-5E08FA49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7AC5-BB76-4D81-B302-57BAB63C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37C4-4E98-42E9-84F9-EEE676A8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A1FC-DE86-4259-9BCD-3EF19994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6D17-A3E2-46DA-B8F4-EDA28127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299C-3EE7-4C05-8FEA-5AA18489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F829-B3BE-4A62-B471-59F0DCF3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7E43-5850-41AC-97B0-A6C9B91E704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L PRESENTE DE INDIC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354120" y="274320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AI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08040" y="1965240"/>
            <a:ext cx="5411520" cy="3447000"/>
            <a:chOff x="608040" y="1965240"/>
            <a:chExt cx="5411520" cy="3447000"/>
          </a:xfrm>
        </p:grpSpPr>
        <p:sp>
          <p:nvSpPr>
            <p:cNvPr id="44" name=""/>
            <p:cNvSpPr/>
            <p:nvPr/>
          </p:nvSpPr>
          <p:spPr>
            <a:xfrm>
              <a:off x="608040" y="3171960"/>
              <a:ext cx="2573280" cy="224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y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tú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él, ella, uste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nosotros/a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vosotros/a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ellos, ellas, ustede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39920" y="1965240"/>
              <a:ext cx="28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VERBOS REGULA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5167080" y="2743200"/>
            <a:ext cx="104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E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38560" y="2743200"/>
            <a:ext cx="13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CRIB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15680" y="3168720"/>
            <a:ext cx="73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bail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15320" y="354168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bail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2440" y="390204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bail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3880" y="4267080"/>
            <a:ext cx="124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bail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3520" y="463248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bail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á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3880" y="4997520"/>
            <a:ext cx="87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bail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73200" y="31798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9966"/>
                </a:solidFill>
                <a:latin typeface="Arial"/>
              </a:rPr>
              <a:t>beb</a:t>
            </a:r>
            <a:r>
              <a:rPr b="1" lang="es-ES_tradnl" sz="2000" spc="-1" strike="noStrike">
                <a:solidFill>
                  <a:srgbClr val="339966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61680" y="3537000"/>
            <a:ext cx="88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9966"/>
                </a:solidFill>
                <a:latin typeface="Arial"/>
              </a:rPr>
              <a:t>beb</a:t>
            </a:r>
            <a:r>
              <a:rPr b="1" lang="es-ES_tradnl" sz="2000" spc="-1" strike="noStrike">
                <a:solidFill>
                  <a:srgbClr val="339966"/>
                </a:solidFill>
                <a:latin typeface="Arial"/>
              </a:rPr>
              <a:t>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63120" y="390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9966"/>
                </a:solidFill>
                <a:latin typeface="Arial"/>
              </a:rPr>
              <a:t>beb</a:t>
            </a:r>
            <a:r>
              <a:rPr b="1" lang="es-ES_tradnl" sz="2000" spc="-1" strike="noStrike">
                <a:solidFill>
                  <a:srgbClr val="339966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66000" y="426708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9966"/>
                </a:solidFill>
                <a:latin typeface="Arial"/>
              </a:rPr>
              <a:t>beb</a:t>
            </a:r>
            <a:r>
              <a:rPr b="1" lang="es-ES_tradnl" sz="2000" spc="-1" strike="noStrike">
                <a:solidFill>
                  <a:srgbClr val="339966"/>
                </a:solidFill>
                <a:latin typeface="Arial"/>
              </a:rPr>
              <a:t>e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64560" y="463248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9966"/>
                </a:solidFill>
                <a:latin typeface="Arial"/>
              </a:rPr>
              <a:t>beb</a:t>
            </a:r>
            <a:r>
              <a:rPr b="1" lang="es-ES_tradnl" sz="2000" spc="-1" strike="noStrike">
                <a:solidFill>
                  <a:srgbClr val="339966"/>
                </a:solidFill>
                <a:latin typeface="Arial"/>
              </a:rPr>
              <a:t>é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68160" y="500076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9966"/>
                </a:solidFill>
                <a:latin typeface="Arial"/>
              </a:rPr>
              <a:t>beb</a:t>
            </a:r>
            <a:r>
              <a:rPr b="1" lang="es-ES_tradnl" sz="2000" spc="-1" strike="noStrike">
                <a:solidFill>
                  <a:srgbClr val="339966"/>
                </a:solidFill>
                <a:latin typeface="Arial"/>
              </a:rPr>
              <a:t>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38920" y="317988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632c2"/>
                </a:solidFill>
                <a:latin typeface="Arial"/>
              </a:rPr>
              <a:t>escrib</a:t>
            </a:r>
            <a:r>
              <a:rPr b="1" lang="es-ES_tradnl" sz="2000" spc="-1" strike="noStrike">
                <a:solidFill>
                  <a:srgbClr val="c632c2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8280" y="3537000"/>
            <a:ext cx="114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632c2"/>
                </a:solidFill>
                <a:latin typeface="Arial"/>
              </a:rPr>
              <a:t>escrib</a:t>
            </a:r>
            <a:r>
              <a:rPr b="1" lang="es-ES_tradnl" sz="2000" spc="-1" strike="noStrike">
                <a:solidFill>
                  <a:srgbClr val="c632c2"/>
                </a:solidFill>
                <a:latin typeface="Arial"/>
              </a:rPr>
              <a:t>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5400" y="3909960"/>
            <a:ext cx="10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632c2"/>
                </a:solidFill>
                <a:latin typeface="Arial"/>
              </a:rPr>
              <a:t>escrib</a:t>
            </a:r>
            <a:r>
              <a:rPr b="1" lang="es-ES_tradnl" sz="2000" spc="-1" strike="noStrike">
                <a:solidFill>
                  <a:srgbClr val="c632c2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0" y="426708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632c2"/>
                </a:solidFill>
                <a:latin typeface="Arial"/>
              </a:rPr>
              <a:t>escrib</a:t>
            </a:r>
            <a:r>
              <a:rPr b="1" lang="es-ES_tradnl" sz="2000" spc="-1" strike="noStrike">
                <a:solidFill>
                  <a:srgbClr val="c632c2"/>
                </a:solidFill>
                <a:latin typeface="Arial"/>
              </a:rPr>
              <a:t>i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0080" y="4632480"/>
            <a:ext cx="107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632c2"/>
                </a:solidFill>
                <a:latin typeface="Arial"/>
              </a:rPr>
              <a:t>escrib</a:t>
            </a:r>
            <a:r>
              <a:rPr b="1" lang="es-ES_tradnl" sz="2000" spc="-1" strike="noStrike">
                <a:solidFill>
                  <a:srgbClr val="c632c2"/>
                </a:solidFill>
                <a:latin typeface="Arial"/>
              </a:rPr>
              <a:t>í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0080" y="4997520"/>
            <a:ext cx="11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632c2"/>
                </a:solidFill>
                <a:latin typeface="Arial"/>
              </a:rPr>
              <a:t>escrib</a:t>
            </a:r>
            <a:r>
              <a:rPr b="1" lang="es-ES_tradnl" sz="2000" spc="-1" strike="noStrike">
                <a:solidFill>
                  <a:srgbClr val="c632c2"/>
                </a:solidFill>
                <a:latin typeface="Arial"/>
              </a:rPr>
              <a:t>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009080" y="1905120"/>
            <a:ext cx="55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on formas invariables cuando se refieren a verbos y a adjetiv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74240" y="1219320"/>
            <a:ext cx="375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UY, MUCHO, DEMASIADO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814320" y="4022640"/>
            <a:ext cx="6590880" cy="444600"/>
            <a:chOff x="814320" y="4022640"/>
            <a:chExt cx="6590880" cy="444600"/>
          </a:xfrm>
        </p:grpSpPr>
        <p:pic>
          <p:nvPicPr>
            <p:cNvPr id="188" name="" descr=""/>
            <p:cNvPicPr/>
            <p:nvPr/>
          </p:nvPicPr>
          <p:blipFill>
            <a:blip r:embed="rId3"/>
            <a:stretch/>
          </p:blipFill>
          <p:spPr>
            <a:xfrm>
              <a:off x="814320" y="4022640"/>
              <a:ext cx="5112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1183320" y="4114800"/>
              <a:ext cx="622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Atención: para referirnos de nuevo a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uy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 + adjetivo, podemos usar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ucho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1152720" y="4495680"/>
            <a:ext cx="3838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Estás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muy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cansado, ¿verdad?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Sí,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mucho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43000" y="2362320"/>
            <a:ext cx="2819520" cy="1523880"/>
            <a:chOff x="1143000" y="2362320"/>
            <a:chExt cx="2819520" cy="1523880"/>
          </a:xfrm>
        </p:grpSpPr>
        <p:sp>
          <p:nvSpPr>
            <p:cNvPr id="192" name=""/>
            <p:cNvSpPr/>
            <p:nvPr/>
          </p:nvSpPr>
          <p:spPr>
            <a:xfrm>
              <a:off x="1143000" y="2362320"/>
              <a:ext cx="2819520" cy="1523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17160" y="2438280"/>
              <a:ext cx="1680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Referidas a verb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87640" y="2819520"/>
              <a:ext cx="2541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Ana trabaja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demasiado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Estos niños duermen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mucho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Coméis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muy poco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Emilio no estudia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nada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4724280" y="2362320"/>
            <a:ext cx="2819520" cy="1523880"/>
            <a:chOff x="4724280" y="2362320"/>
            <a:chExt cx="2819520" cy="1523880"/>
          </a:xfrm>
        </p:grpSpPr>
        <p:sp>
          <p:nvSpPr>
            <p:cNvPr id="196" name=""/>
            <p:cNvSpPr/>
            <p:nvPr/>
          </p:nvSpPr>
          <p:spPr>
            <a:xfrm>
              <a:off x="4724280" y="2362320"/>
              <a:ext cx="2819520" cy="1523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873680" y="2819520"/>
              <a:ext cx="2642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Ana está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demasiado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 cansad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Estoy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muy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 cansad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Yo soy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poco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 ágil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No es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nada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 fuert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58560" y="2438280"/>
              <a:ext cx="184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Referidas a adjetiv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989280" y="5113440"/>
            <a:ext cx="6191280" cy="756360"/>
            <a:chOff x="989280" y="5113440"/>
            <a:chExt cx="6191280" cy="756360"/>
          </a:xfrm>
        </p:grpSpPr>
        <p:sp>
          <p:nvSpPr>
            <p:cNvPr id="200" name=""/>
            <p:cNvSpPr/>
            <p:nvPr/>
          </p:nvSpPr>
          <p:spPr>
            <a:xfrm>
              <a:off x="1179360" y="5562720"/>
              <a:ext cx="527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Es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un poco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 lento.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Es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un poco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 san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989280" y="5113440"/>
              <a:ext cx="619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SzPct val="102950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Recuerda que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un poco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 solo se usa con adjetivos de significado negativ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4952520" y="5562720"/>
              <a:ext cx="1370880" cy="304560"/>
              <a:chOff x="4952520" y="5562720"/>
              <a:chExt cx="1370880" cy="304560"/>
            </a:xfrm>
          </p:grpSpPr>
          <p:sp>
            <p:nvSpPr>
              <p:cNvPr id="203" name=""/>
              <p:cNvSpPr/>
              <p:nvPr/>
            </p:nvSpPr>
            <p:spPr>
              <a:xfrm flipH="1">
                <a:off x="4952520" y="5562720"/>
                <a:ext cx="1370520" cy="30456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952880" y="5562720"/>
                <a:ext cx="1370520" cy="30456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cut thruBlk="true"/>
    <p:sndAc>
      <p:stSnd>
        <p:snd r:embed="rId7" name="camera.wav"/>
      </p:stSnd>
    </p:sndAc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838080" y="1752480"/>
            <a:ext cx="678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os nombres terminados en -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son generalmente femeninos y los terminados en -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masculinos. Hay, sin embargo, muchas excepcion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29680" y="99072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ÉNERO DE LOS NOMB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65120" y="5041800"/>
            <a:ext cx="6164280" cy="444600"/>
            <a:chOff x="465120" y="5041800"/>
            <a:chExt cx="6164280" cy="444600"/>
          </a:xfrm>
        </p:grpSpPr>
        <p:pic>
          <p:nvPicPr>
            <p:cNvPr id="208" name="" descr=""/>
            <p:cNvPicPr/>
            <p:nvPr/>
          </p:nvPicPr>
          <p:blipFill>
            <a:blip r:embed="rId3"/>
            <a:stretch/>
          </p:blipFill>
          <p:spPr>
            <a:xfrm>
              <a:off x="465120" y="5041800"/>
              <a:ext cx="5112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830160" y="5141880"/>
              <a:ext cx="579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Pero: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la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 ca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a          la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 da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a         la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 ra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822960" y="2438280"/>
            <a:ext cx="44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n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ot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ot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í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10720" y="2940120"/>
            <a:ext cx="578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n general son femeninos los nombres que tienen las termin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ión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/-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ión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-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ad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-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z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-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ur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2240" y="3610080"/>
            <a:ext cx="740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conversa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ión          l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difu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ión          l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felici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ad          l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trist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za         l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hermos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06040" y="4119480"/>
            <a:ext cx="57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on masculinos la mayor parte de los nombres terminados en -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30160" y="4600440"/>
            <a:ext cx="709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te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proble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a          el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trau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a          el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sínto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a          el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dra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6" name="camera.wav"/>
      </p:stSnd>
    </p:sndAc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3276720"/>
            <a:ext cx="2438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yo)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tú)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él, ella, usted)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nosotros/as)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vosotros/as)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ellos, ellas, usted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2575080"/>
            <a:ext cx="1752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BURRIR</a:t>
            </a: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9800" y="1523880"/>
            <a:ext cx="30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ERBOS REFLEX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4285800" y="2940120"/>
            <a:ext cx="762120" cy="3808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0000" y="2604960"/>
            <a:ext cx="139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LAMAR</a:t>
            </a: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324480" y="2895480"/>
            <a:ext cx="990720" cy="4572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3880" y="332100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me</a:t>
            </a:r>
            <a:r>
              <a:rPr b="0" lang="es-ES_tradnl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l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6760" y="364824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te</a:t>
            </a:r>
            <a:r>
              <a:rPr b="0" lang="es-ES_tradnl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la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7120" y="397656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se</a:t>
            </a:r>
            <a:r>
              <a:rPr b="0" lang="es-ES_tradnl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l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6040" y="430992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nos</a:t>
            </a:r>
            <a:r>
              <a:rPr b="0" lang="es-ES_tradnl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lam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7120" y="4640400"/>
            <a:ext cx="119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os</a:t>
            </a:r>
            <a:r>
              <a:rPr b="0" lang="es-ES_tradnl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lamá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65400" y="4967280"/>
            <a:ext cx="115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se</a:t>
            </a:r>
            <a:r>
              <a:rPr b="0" lang="es-ES_tradnl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la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76440" y="3314880"/>
            <a:ext cx="122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m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abu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79320" y="364824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t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abur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84360" y="3978360"/>
            <a:ext cx="114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s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abu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78600" y="431172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n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aburri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77520" y="4640400"/>
            <a:ext cx="119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aburrí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82920" y="49687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s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abur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2" name="camera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972800" y="2070000"/>
            <a:ext cx="441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bos como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uere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spertars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37200" y="1295280"/>
            <a:ext cx="412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ERBOS IRREGULARES (I): E/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79640" y="3224160"/>
            <a:ext cx="257328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y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él, ella, us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nosotros/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vosotros/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ellos, ellas, uste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25000" y="2751120"/>
            <a:ext cx="20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P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TA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39840" y="32306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Arial"/>
              </a:rPr>
              <a:t>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41640" y="359424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Arial"/>
              </a:rPr>
              <a:t>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42720" y="394812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Arial"/>
              </a:rPr>
              <a:t>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44160" y="43210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Arial"/>
              </a:rPr>
              <a:t>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33360" y="46846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Arial"/>
              </a:rPr>
              <a:t>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44520" y="505152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Arial"/>
              </a:rPr>
              <a:t>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72280" y="323064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Arial"/>
              </a:rPr>
              <a:t>desp</a:t>
            </a:r>
            <a:r>
              <a:rPr b="1" lang="es-ES_tradnl" sz="2000" spc="-1" strike="noStrike">
                <a:solidFill>
                  <a:srgbClr val="008080"/>
                </a:solidFill>
                <a:latin typeface="Arial"/>
              </a:rPr>
              <a:t>ie</a:t>
            </a:r>
            <a:r>
              <a:rPr b="0" lang="es-ES_tradnl" sz="2000" spc="-1" strike="noStrike">
                <a:solidFill>
                  <a:srgbClr val="008080"/>
                </a:solidFill>
                <a:latin typeface="Arial"/>
              </a:rPr>
              <a:t>r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58960" y="359568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Arial"/>
              </a:rPr>
              <a:t>desp</a:t>
            </a:r>
            <a:r>
              <a:rPr b="1" lang="es-ES_tradnl" sz="2000" spc="-1" strike="noStrike">
                <a:solidFill>
                  <a:srgbClr val="008080"/>
                </a:solidFill>
                <a:latin typeface="Arial"/>
              </a:rPr>
              <a:t>ie</a:t>
            </a:r>
            <a:r>
              <a:rPr b="0" lang="es-ES_tradnl" sz="2000" spc="-1" strike="noStrike">
                <a:solidFill>
                  <a:srgbClr val="008080"/>
                </a:solidFill>
                <a:latin typeface="Arial"/>
              </a:rPr>
              <a:t>r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62560" y="394812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Arial"/>
              </a:rPr>
              <a:t>desp</a:t>
            </a:r>
            <a:r>
              <a:rPr b="1" lang="es-ES_tradnl" sz="2000" spc="-1" strike="noStrike">
                <a:solidFill>
                  <a:srgbClr val="008080"/>
                </a:solidFill>
                <a:latin typeface="Arial"/>
              </a:rPr>
              <a:t>ie</a:t>
            </a:r>
            <a:r>
              <a:rPr b="0" lang="es-ES_tradnl" sz="2000" spc="-1" strike="noStrike">
                <a:solidFill>
                  <a:srgbClr val="008080"/>
                </a:solidFill>
                <a:latin typeface="Arial"/>
              </a:rPr>
              <a:t>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72640" y="4321080"/>
            <a:ext cx="165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Arial"/>
              </a:rPr>
              <a:t>despert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63280" y="468468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Arial"/>
              </a:rPr>
              <a:t>despertá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59320" y="5049720"/>
            <a:ext cx="13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Arial"/>
              </a:rPr>
              <a:t>desp</a:t>
            </a:r>
            <a:r>
              <a:rPr b="1" lang="es-ES_tradnl" sz="2000" spc="-1" strike="noStrike">
                <a:solidFill>
                  <a:srgbClr val="008080"/>
                </a:solidFill>
                <a:latin typeface="Arial"/>
              </a:rPr>
              <a:t>ie</a:t>
            </a:r>
            <a:r>
              <a:rPr b="0" lang="es-ES_tradnl" sz="2000" spc="-1" strike="noStrike">
                <a:solidFill>
                  <a:srgbClr val="008080"/>
                </a:solidFill>
                <a:latin typeface="Arial"/>
              </a:rPr>
              <a:t>r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3" name="camera.wav"/>
      </p:stSnd>
    </p:sndAc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742480" y="1190520"/>
            <a:ext cx="40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ERBOS IRREGULARES (II): E/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6880" y="1905120"/>
            <a:ext cx="579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bos como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ci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rvi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gui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di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estirs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09760" y="2951280"/>
            <a:ext cx="257328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y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él, ella, us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nosotros/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vosotros/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ellos, ellas, uste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45560" y="2590920"/>
            <a:ext cx="8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889960" y="259236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V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366440" y="29494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65720" y="3305160"/>
            <a:ext cx="7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66080" y="368604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65720" y="4051440"/>
            <a:ext cx="113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deci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365720" y="4416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decí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65720" y="4772160"/>
            <a:ext cx="80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c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82040" y="294948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9966"/>
                </a:solidFill>
                <a:latin typeface="Arial"/>
              </a:rPr>
              <a:t>s</a:t>
            </a:r>
            <a:r>
              <a:rPr b="1" lang="es-ES_tradnl" sz="2000" spc="-1" strike="noStrike">
                <a:solidFill>
                  <a:srgbClr val="339966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339966"/>
                </a:solidFill>
                <a:latin typeface="Arial"/>
              </a:rPr>
              <a:t>r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81680" y="3305160"/>
            <a:ext cx="8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9966"/>
                </a:solidFill>
                <a:latin typeface="Arial"/>
              </a:rPr>
              <a:t>s</a:t>
            </a:r>
            <a:r>
              <a:rPr b="1" lang="es-ES_tradnl" sz="2000" spc="-1" strike="noStrike">
                <a:solidFill>
                  <a:srgbClr val="339966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339966"/>
                </a:solidFill>
                <a:latin typeface="Arial"/>
              </a:rPr>
              <a:t>r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82040" y="36860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9966"/>
                </a:solidFill>
                <a:latin typeface="Arial"/>
              </a:rPr>
              <a:t>s</a:t>
            </a:r>
            <a:r>
              <a:rPr b="1" lang="es-ES_tradnl" sz="2000" spc="-1" strike="noStrike">
                <a:solidFill>
                  <a:srgbClr val="339966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339966"/>
                </a:solidFill>
                <a:latin typeface="Arial"/>
              </a:rPr>
              <a:t>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880960" y="4051440"/>
            <a:ext cx="12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9966"/>
                </a:solidFill>
                <a:latin typeface="Arial"/>
              </a:rPr>
              <a:t>servi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81680" y="4416480"/>
            <a:ext cx="86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9966"/>
                </a:solidFill>
                <a:latin typeface="Arial"/>
              </a:rPr>
              <a:t>serví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81680" y="4772160"/>
            <a:ext cx="87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9966"/>
                </a:solidFill>
                <a:latin typeface="Arial"/>
              </a:rPr>
              <a:t>s</a:t>
            </a:r>
            <a:r>
              <a:rPr b="1" lang="es-ES_tradnl" sz="2000" spc="-1" strike="noStrike">
                <a:solidFill>
                  <a:srgbClr val="339966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339966"/>
                </a:solidFill>
                <a:latin typeface="Arial"/>
              </a:rPr>
              <a:t>r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3" name="camera.wav"/>
      </p:stSnd>
    </p:sndAc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44440" y="2523960"/>
            <a:ext cx="12952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81280" y="1203480"/>
            <a:ext cx="440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ERBOS IRREGULARES (III): O/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94200" y="1876320"/>
            <a:ext cx="470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bos como: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ode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ostars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olve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53120" y="252108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97520" y="252252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T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09760" y="2951280"/>
            <a:ext cx="257328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y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él, ella, us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nosotros/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vosotros/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ellos, ellas, uste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66440" y="29494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ue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65720" y="3305160"/>
            <a:ext cx="103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ue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66440" y="368604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ue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65360" y="4051440"/>
            <a:ext cx="12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pode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65720" y="441648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podé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66080" y="4772160"/>
            <a:ext cx="10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ue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881680" y="29494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40"/>
                </a:solidFill>
                <a:latin typeface="Arial"/>
              </a:rPr>
              <a:t>me ac</a:t>
            </a:r>
            <a:r>
              <a:rPr b="1" lang="es-ES_tradnl" sz="2000" spc="-1" strike="noStrike">
                <a:solidFill>
                  <a:srgbClr val="800040"/>
                </a:solidFill>
                <a:latin typeface="Arial"/>
              </a:rPr>
              <a:t>ue</a:t>
            </a:r>
            <a:r>
              <a:rPr b="0" lang="es-ES_tradnl" sz="2000" spc="-1" strike="noStrike">
                <a:solidFill>
                  <a:srgbClr val="800040"/>
                </a:solidFill>
                <a:latin typeface="Arial"/>
              </a:rPr>
              <a:t>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81320" y="330516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40"/>
                </a:solidFill>
                <a:latin typeface="Arial"/>
              </a:rPr>
              <a:t>te ac</a:t>
            </a:r>
            <a:r>
              <a:rPr b="1" lang="es-ES_tradnl" sz="2000" spc="-1" strike="noStrike">
                <a:solidFill>
                  <a:srgbClr val="800040"/>
                </a:solidFill>
                <a:latin typeface="Arial"/>
              </a:rPr>
              <a:t>ue</a:t>
            </a:r>
            <a:r>
              <a:rPr b="0" lang="es-ES_tradnl" sz="2000" spc="-1" strike="noStrike">
                <a:solidFill>
                  <a:srgbClr val="800040"/>
                </a:solidFill>
                <a:latin typeface="Arial"/>
              </a:rPr>
              <a:t>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881680" y="368604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40"/>
                </a:solidFill>
                <a:latin typeface="Arial"/>
              </a:rPr>
              <a:t>se ac</a:t>
            </a:r>
            <a:r>
              <a:rPr b="1" lang="es-ES_tradnl" sz="2000" spc="-1" strike="noStrike">
                <a:solidFill>
                  <a:srgbClr val="800040"/>
                </a:solidFill>
                <a:latin typeface="Arial"/>
              </a:rPr>
              <a:t>ue</a:t>
            </a:r>
            <a:r>
              <a:rPr b="0" lang="es-ES_tradnl" sz="2000" spc="-1" strike="noStrike">
                <a:solidFill>
                  <a:srgbClr val="800040"/>
                </a:solidFill>
                <a:latin typeface="Arial"/>
              </a:rPr>
              <a:t>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80240" y="4051440"/>
            <a:ext cx="189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40"/>
                </a:solidFill>
                <a:latin typeface="Arial"/>
              </a:rPr>
              <a:t>nos acost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880600" y="441648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40"/>
                </a:solidFill>
                <a:latin typeface="Arial"/>
              </a:rPr>
              <a:t>os acostá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81320" y="47721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40"/>
                </a:solidFill>
                <a:latin typeface="Arial"/>
              </a:rPr>
              <a:t>se ac</a:t>
            </a:r>
            <a:r>
              <a:rPr b="1" lang="es-ES_tradnl" sz="2000" spc="-1" strike="noStrike">
                <a:solidFill>
                  <a:srgbClr val="800040"/>
                </a:solidFill>
                <a:latin typeface="Arial"/>
              </a:rPr>
              <a:t>ue</a:t>
            </a:r>
            <a:r>
              <a:rPr b="0" lang="es-ES_tradnl" sz="2000" spc="-1" strike="noStrike">
                <a:solidFill>
                  <a:srgbClr val="800040"/>
                </a:solidFill>
                <a:latin typeface="Arial"/>
              </a:rPr>
              <a:t>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3" name="camera.wav"/>
      </p:stSnd>
    </p:sndAc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360520" y="1284120"/>
            <a:ext cx="442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ERBOS IRREGULARES (IV): U/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11960" y="25210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68600" y="2951280"/>
            <a:ext cx="257328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y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él, ella, us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nosotros/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vosotros/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ellos, ellas, uste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24920" y="29494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9966"/>
                </a:solidFill>
                <a:latin typeface="Arial"/>
              </a:rPr>
              <a:t>j</a:t>
            </a:r>
            <a:r>
              <a:rPr b="1" lang="es-ES_tradnl" sz="2000" spc="-1" strike="noStrike">
                <a:solidFill>
                  <a:srgbClr val="339966"/>
                </a:solidFill>
                <a:latin typeface="Arial"/>
              </a:rPr>
              <a:t>ue</a:t>
            </a:r>
            <a:r>
              <a:rPr b="0" lang="es-ES_tradnl" sz="2000" spc="-1" strike="noStrike">
                <a:solidFill>
                  <a:srgbClr val="339966"/>
                </a:solidFill>
                <a:latin typeface="Arial"/>
              </a:rPr>
              <a:t>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24560" y="3305160"/>
            <a:ext cx="94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9966"/>
                </a:solidFill>
                <a:latin typeface="Arial"/>
              </a:rPr>
              <a:t>j</a:t>
            </a:r>
            <a:r>
              <a:rPr b="1" lang="es-ES_tradnl" sz="2000" spc="-1" strike="noStrike">
                <a:solidFill>
                  <a:srgbClr val="339966"/>
                </a:solidFill>
                <a:latin typeface="Arial"/>
              </a:rPr>
              <a:t>ue</a:t>
            </a:r>
            <a:r>
              <a:rPr b="0" lang="es-ES_tradnl" sz="2000" spc="-1" strike="noStrike">
                <a:solidFill>
                  <a:srgbClr val="339966"/>
                </a:solidFill>
                <a:latin typeface="Arial"/>
              </a:rPr>
              <a:t>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24920" y="368604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9966"/>
                </a:solidFill>
                <a:latin typeface="Arial"/>
              </a:rPr>
              <a:t>j</a:t>
            </a:r>
            <a:r>
              <a:rPr b="1" lang="es-ES_tradnl" sz="2000" spc="-1" strike="noStrike">
                <a:solidFill>
                  <a:srgbClr val="339966"/>
                </a:solidFill>
                <a:latin typeface="Arial"/>
              </a:rPr>
              <a:t>ue</a:t>
            </a:r>
            <a:r>
              <a:rPr b="0" lang="es-ES_tradnl" sz="2000" spc="-1" strike="noStrike">
                <a:solidFill>
                  <a:srgbClr val="339966"/>
                </a:solidFill>
                <a:latin typeface="Arial"/>
              </a:rPr>
              <a:t>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24920" y="405144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9966"/>
                </a:solidFill>
                <a:latin typeface="Arial"/>
              </a:rPr>
              <a:t>jug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24920" y="441648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9966"/>
                </a:solidFill>
                <a:latin typeface="Arial"/>
              </a:rPr>
              <a:t>jugá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24920" y="4772160"/>
            <a:ext cx="95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9966"/>
                </a:solidFill>
                <a:latin typeface="Arial"/>
              </a:rPr>
              <a:t>j</a:t>
            </a:r>
            <a:r>
              <a:rPr b="1" lang="es-ES_tradnl" sz="2000" spc="-1" strike="noStrike">
                <a:solidFill>
                  <a:srgbClr val="339966"/>
                </a:solidFill>
                <a:latin typeface="Arial"/>
              </a:rPr>
              <a:t>ue</a:t>
            </a:r>
            <a:r>
              <a:rPr b="0" lang="es-ES_tradnl" sz="2000" spc="-1" strike="noStrike">
                <a:solidFill>
                  <a:srgbClr val="339966"/>
                </a:solidFill>
                <a:latin typeface="Arial"/>
              </a:rPr>
              <a:t>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2" name="camera.wav"/>
      </p:stSnd>
    </p:sndAc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447920" y="312408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yo)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a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n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n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al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n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3080" y="1203480"/>
            <a:ext cx="358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ERBOS IRREGULARES (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39625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arias irregularidades en el Pres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23302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rregularidad en la 1ª persona del singular: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hace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one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ci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eni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li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ene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2760" y="4419720"/>
            <a:ext cx="54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n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es          d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g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es          ten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4" name="camera.wav"/>
      </p:stSnd>
    </p:sndAc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04440" y="1295280"/>
            <a:ext cx="79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ERBOS IRREGULARES (VI): IRREGULARIDADES ESPE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75200" y="25178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1840" y="2940120"/>
            <a:ext cx="257328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y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él, ella, us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nosotros/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vosotros/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ellos, ellas, uste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89600" y="297036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0080"/>
                </a:solidFill>
                <a:latin typeface="Arial"/>
              </a:rPr>
              <a:t>v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90320" y="33256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0080"/>
                </a:solidFill>
                <a:latin typeface="Arial"/>
              </a:rPr>
              <a:t>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89960" y="3706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0080"/>
                </a:solidFill>
                <a:latin typeface="Arial"/>
              </a:rPr>
              <a:t>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89960" y="407196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0080"/>
                </a:solidFill>
                <a:latin typeface="Arial"/>
              </a:rPr>
              <a:t>v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89960" y="4437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0080"/>
                </a:solidFill>
                <a:latin typeface="Arial"/>
              </a:rPr>
              <a:t>v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89600" y="47926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0080"/>
                </a:solidFill>
                <a:latin typeface="Arial"/>
              </a:rPr>
              <a:t>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7840" y="251928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11520" y="297180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9966"/>
                </a:solidFill>
                <a:latin typeface="Arial"/>
              </a:rPr>
              <a:t>d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12240" y="33274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9966"/>
                </a:solidFill>
                <a:latin typeface="Arial"/>
              </a:rPr>
              <a:t>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12240" y="370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9966"/>
                </a:solidFill>
                <a:latin typeface="Arial"/>
              </a:rPr>
              <a:t>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12600" y="40734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9966"/>
                </a:solidFill>
                <a:latin typeface="Arial"/>
              </a:rPr>
              <a:t>d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12600" y="443880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9966"/>
                </a:solidFill>
                <a:latin typeface="Arial"/>
              </a:rPr>
              <a:t>d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12600" y="4794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9966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80160" y="251928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94920" y="297180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est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795280" y="33274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est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95280" y="370836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est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94920" y="407340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est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94920" y="443880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está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94920" y="479412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est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162920" y="25210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A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177680" y="2973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0040"/>
                </a:solidFill>
                <a:latin typeface="Arial"/>
              </a:rPr>
              <a:t>s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178040" y="33289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0040"/>
                </a:solidFill>
                <a:latin typeface="Arial"/>
              </a:rPr>
              <a:t>sa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177680" y="37101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0040"/>
                </a:solidFill>
                <a:latin typeface="Arial"/>
              </a:rPr>
              <a:t>sa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178040" y="407520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0040"/>
                </a:solidFill>
                <a:latin typeface="Arial"/>
              </a:rPr>
              <a:t>sabe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178040" y="444024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0040"/>
                </a:solidFill>
                <a:latin typeface="Arial"/>
              </a:rPr>
              <a:t>sabé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178040" y="479592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0040"/>
                </a:solidFill>
                <a:latin typeface="Arial"/>
              </a:rPr>
              <a:t>sa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2" name="camera.wav"/>
      </p:stSnd>
    </p:sndAc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447920" y="1889280"/>
            <a:ext cx="55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ueden ir en diferentes lugares de la fr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118728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OSICI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ÓN DE LA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XPRESIONES DE FRECU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371600" y="4044960"/>
            <a:ext cx="5721840" cy="1672560"/>
            <a:chOff x="1371600" y="4044960"/>
            <a:chExt cx="5721840" cy="1672560"/>
          </a:xfrm>
        </p:grpSpPr>
        <p:pic>
          <p:nvPicPr>
            <p:cNvPr id="182" name="" descr=""/>
            <p:cNvPicPr/>
            <p:nvPr/>
          </p:nvPicPr>
          <p:blipFill>
            <a:blip r:embed="rId3"/>
            <a:stretch/>
          </p:blipFill>
          <p:spPr>
            <a:xfrm>
              <a:off x="1371600" y="4044960"/>
              <a:ext cx="52056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1752120" y="4098960"/>
              <a:ext cx="53413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NUN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nunca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+ verbo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Nunca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 tomo café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+ verbo +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nunca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 tomo café 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nunca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1750680" y="2422440"/>
            <a:ext cx="433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Vamos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iempre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 a esquiar a Fra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Vamos a esquiar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iempre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 a Fra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iempre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 vamos a esquiar a Fra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4" name="camera.wav"/>
      </p:stSnd>
    </p:sndAc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16:11:29Z</dcterms:created>
  <dc:creator>USER</dc:creator>
  <dc:description/>
  <dc:language>en-US</dc:language>
  <cp:lastModifiedBy>Agustí Garmendia</cp:lastModifiedBy>
  <cp:lastPrinted>2007-06-19T14:05:06Z</cp:lastPrinted>
  <dcterms:modified xsi:type="dcterms:W3CDTF">2007-06-22T10:24:48Z</dcterms:modified>
  <cp:revision>125</cp:revision>
  <dc:subject/>
  <dc:title>Παρουσίαση του PowerPoint</dc:title>
</cp:coreProperties>
</file>